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328-24E0-49A3-B953-798A44FA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456-B7E4-4C7E-B77E-36025EBA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656-9A0A-492F-852E-F10F7360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53C-6B1D-43D9-B6DA-2084FE50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9B5A-A6C8-4A38-92B7-E98B4547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317F-3504-4F12-9A97-664EB387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DA07-4AFB-41EA-AEE9-01800509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547F-4872-4B9D-B209-F6CABEAF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DAD2-1AA6-47D7-821B-7C97D505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869A-BD76-4636-AB47-8C988A53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144B-CD64-42DF-A593-9E50F67D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97F-B21D-4889-9901-808C0C00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7670-925D-4DEF-A4A1-EED17945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A6E4-FEF6-43A6-A32E-D71BAA5D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2426-A1A3-41FA-B170-FA550431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3130-13D5-4AF5-9FDF-85E282EF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485F-B99D-49C7-9CD8-17682BBB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A5C17-9C3D-4011-9C61-036E7829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D014C-593B-4667-B688-CE1B8ED0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5B81-DA4D-4C45-82BE-15B6E6FA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98505-7AE5-428B-8720-6E8C8AA1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FAE40-D3A4-4189-9B2C-DA3B74CC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2380-7B3F-4ED0-8DB9-A16E2020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457FD-544E-404A-9799-5D1E7671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DE186-2B5E-4842-809B-096B2FF4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85C51-F684-4321-8441-E10A7B79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7AD68-6034-4615-86C5-E2110A9D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778FA-8D55-45F8-82D7-A267BD2E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D2FAB-A382-4EF6-89ED-A9851028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77DCF-72F7-4567-8CF1-5BB8459F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BA118-4BFB-4CA0-B1B6-7E802FF6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65D66-7769-4ED0-8019-6967BF1E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3B0A5-98B3-4762-A1AB-F8D9B28E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5C39-3697-4B48-AD5E-52936CC3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2A9E3-2828-42C7-BAE3-D474AD5E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6632C-55E5-45EF-864A-EF228BAC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D2073-070F-4102-999B-99B54722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D25C7-3EA1-4AE1-A8AA-D16903B9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F9917-CB16-412F-928A-FE89E183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28BCB-82C9-4824-8DEB-066068F4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2F805-8D7E-4334-ABCA-41F0526C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264EE-E009-4636-B66D-C0004880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B0DA0-45C4-4172-883C-3D6E6006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9AB-7503-4894-94E3-AD94EE6F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297-78BC-4723-B30A-388BF2D7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75C-CDE1-4922-8A1C-024CCD5B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CDC-2E9D-452F-982E-FDBB1C29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6CE-EE51-43E4-AB3D-A5EB278B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C84D-71A0-4203-8F3F-CEE7C9242BEB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0FEE-6E8F-4E8F-8234-6C95AC2B09FA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5A06-59F7-44E7-A49A-BF0B57070D49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,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08F0-2D44-4670-95E8-6CB27120BEEF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69360" y="4358880"/>
            <a:ext cx="8602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9C07-8442-4D8D-9D8C-1F8545F4DF2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функ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CBD5-D946-40A5-AA6B-5AE5E6950A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вспомогательный алгоритм, который возвращает результат (число, строку символов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384120" y="175896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писать функцию, которая вычисляет среднее арифметическое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3"/>
          <p:cNvGrpSpPr/>
          <p:nvPr/>
        </p:nvGrpSpPr>
        <p:grpSpPr>
          <a:xfrm>
            <a:off x="1219320" y="2805120"/>
            <a:ext cx="5930640" cy="952560"/>
            <a:chOff x="1219320" y="2805120"/>
            <a:chExt cx="5930640" cy="952560"/>
          </a:xfrm>
        </p:grpSpPr>
        <p:sp>
          <p:nvSpPr>
            <p:cNvPr id="259" name="AutoShape 31"/>
            <p:cNvSpPr/>
            <p:nvPr/>
          </p:nvSpPr>
          <p:spPr>
            <a:xfrm>
              <a:off x="1219320" y="2805120"/>
              <a:ext cx="59306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0"/>
            <p:cNvSpPr/>
            <p:nvPr/>
          </p:nvSpPr>
          <p:spPr>
            <a:xfrm>
              <a:off x="3747240" y="2903040"/>
              <a:ext cx="174924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v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5495760" y="326880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8"/>
            <p:cNvSpPr/>
            <p:nvPr/>
          </p:nvSpPr>
          <p:spPr>
            <a:xfrm>
              <a:off x="1404000" y="326880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7"/>
            <p:cNvSpPr/>
            <p:nvPr/>
          </p:nvSpPr>
          <p:spPr>
            <a:xfrm>
              <a:off x="1867320" y="280512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6"/>
            <p:cNvSpPr/>
            <p:nvPr/>
          </p:nvSpPr>
          <p:spPr>
            <a:xfrm>
              <a:off x="6266880" y="280512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1219320" y="327528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4"/>
            <p:cNvSpPr/>
            <p:nvPr/>
          </p:nvSpPr>
          <p:spPr>
            <a:xfrm>
              <a:off x="5521320" y="327528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Прямоугольник 14"/>
          <p:cNvSpPr/>
          <p:nvPr/>
        </p:nvSpPr>
        <p:spPr>
          <a:xfrm>
            <a:off x="1885680" y="3592440"/>
            <a:ext cx="107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цел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5"/>
          <p:cNvSpPr/>
          <p:nvPr/>
        </p:nvSpPr>
        <p:spPr>
          <a:xfrm>
            <a:off x="1501920" y="28400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55"/>
          <p:cNvGrpSpPr/>
          <p:nvPr/>
        </p:nvGrpSpPr>
        <p:grpSpPr>
          <a:xfrm>
            <a:off x="5816520" y="3621240"/>
            <a:ext cx="3148200" cy="931680"/>
            <a:chOff x="5816520" y="3621240"/>
            <a:chExt cx="3148200" cy="931680"/>
          </a:xfrm>
        </p:grpSpPr>
        <p:sp>
          <p:nvSpPr>
            <p:cNvPr id="270" name="Text Box 56"/>
            <p:cNvSpPr/>
            <p:nvPr/>
          </p:nvSpPr>
          <p:spPr>
            <a:xfrm>
              <a:off x="6283440" y="3727440"/>
              <a:ext cx="2681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ип результата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57"/>
            <p:cNvSpPr/>
            <p:nvPr/>
          </p:nvSpPr>
          <p:spPr>
            <a:xfrm>
              <a:off x="5816520" y="3621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Прямоугольник 19"/>
          <p:cNvSpPr/>
          <p:nvPr/>
        </p:nvSpPr>
        <p:spPr>
          <a:xfrm>
            <a:off x="5655960" y="2840040"/>
            <a:ext cx="74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ве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069920" y="4246560"/>
            <a:ext cx="39337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Группа 23"/>
          <p:cNvGrpSpPr/>
          <p:nvPr/>
        </p:nvGrpSpPr>
        <p:grpSpPr>
          <a:xfrm>
            <a:off x="1424160" y="2813040"/>
            <a:ext cx="2128680" cy="1622520"/>
            <a:chOff x="1424160" y="2813040"/>
            <a:chExt cx="2128680" cy="1622520"/>
          </a:xfrm>
        </p:grpSpPr>
        <p:sp>
          <p:nvSpPr>
            <p:cNvPr id="275" name="Скругленный прямоугольник 21"/>
            <p:cNvSpPr/>
            <p:nvPr/>
          </p:nvSpPr>
          <p:spPr>
            <a:xfrm>
              <a:off x="1424160" y="2813040"/>
              <a:ext cx="153972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олилиния 22"/>
            <p:cNvSpPr/>
            <p:nvPr/>
          </p:nvSpPr>
          <p:spPr>
            <a:xfrm>
              <a:off x="2952360" y="3195000"/>
              <a:ext cx="600480" cy="124056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1240560"/>
                <a:gd name="textAreaBottom" fmla="*/ 1240560 h 1240560"/>
              </a:gdLst>
              <a:ahLst/>
              <a:rect l="textAreaLeft" t="textAreaTop" r="textAreaRight" b="textAreaBottom"/>
              <a:pathLst>
                <a:path w="339524" h="1532756">
                  <a:moveTo>
                    <a:pt x="0" y="0"/>
                  </a:moveTo>
                  <a:cubicBezTo>
                    <a:pt x="339524" y="339524"/>
                    <a:pt x="76930" y="1005264"/>
                    <a:pt x="13003" y="1532756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Группа 30"/>
          <p:cNvGrpSpPr/>
          <p:nvPr/>
        </p:nvGrpSpPr>
        <p:grpSpPr>
          <a:xfrm>
            <a:off x="1076400" y="4984920"/>
            <a:ext cx="3178080" cy="920520"/>
            <a:chOff x="1076400" y="4984920"/>
            <a:chExt cx="3178080" cy="920520"/>
          </a:xfrm>
        </p:grpSpPr>
        <p:sp>
          <p:nvSpPr>
            <p:cNvPr id="278" name="Полилиния 29"/>
            <p:cNvSpPr/>
            <p:nvPr/>
          </p:nvSpPr>
          <p:spPr>
            <a:xfrm>
              <a:off x="1806480" y="4984920"/>
              <a:ext cx="326880" cy="404640"/>
            </a:xfrm>
            <a:custGeom>
              <a:avLst/>
              <a:gdLst/>
              <a:ahLst/>
              <a:rect l="l" t="t" r="r" b="b"/>
              <a:pathLst>
                <a:path w="327025" h="314325">
                  <a:moveTo>
                    <a:pt x="327025" y="304800"/>
                  </a:moveTo>
                  <a:lnTo>
                    <a:pt x="133350" y="0"/>
                  </a:lnTo>
                  <a:lnTo>
                    <a:pt x="0" y="314325"/>
                  </a:lnTo>
                  <a:lnTo>
                    <a:pt x="327025" y="30480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8"/>
            <p:cNvSpPr/>
            <p:nvPr/>
          </p:nvSpPr>
          <p:spPr>
            <a:xfrm flipH="1">
              <a:off x="1076400" y="5364360"/>
              <a:ext cx="3178080" cy="54108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рну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Группа 39"/>
          <p:cNvGrpSpPr/>
          <p:nvPr/>
        </p:nvGrpSpPr>
        <p:grpSpPr>
          <a:xfrm>
            <a:off x="2752560" y="4497480"/>
            <a:ext cx="3706560" cy="763560"/>
            <a:chOff x="2752560" y="4497480"/>
            <a:chExt cx="3706560" cy="763560"/>
          </a:xfrm>
        </p:grpSpPr>
        <p:sp>
          <p:nvSpPr>
            <p:cNvPr id="281" name="Скругленный прямоугольник 21"/>
            <p:cNvSpPr/>
            <p:nvPr/>
          </p:nvSpPr>
          <p:spPr>
            <a:xfrm>
              <a:off x="2752560" y="4628160"/>
              <a:ext cx="153900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8"/>
            <p:cNvSpPr/>
            <p:nvPr/>
          </p:nvSpPr>
          <p:spPr>
            <a:xfrm flipH="1">
              <a:off x="4602960" y="4497480"/>
              <a:ext cx="1855800" cy="763560"/>
            </a:xfrm>
            <a:prstGeom prst="wedgeRoundRectCallout">
              <a:avLst>
                <a:gd name="adj1" fmla="val 66555"/>
                <a:gd name="adj2" fmla="val -9120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зультат функц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6415-F56F-438D-9B86-0F14D28C88D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результата в переменну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612720" y="1270080"/>
            <a:ext cx="4789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612720" y="1881360"/>
            <a:ext cx="4789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4668480" y="1276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55"/>
          <p:cNvGrpSpPr/>
          <p:nvPr/>
        </p:nvGrpSpPr>
        <p:grpSpPr>
          <a:xfrm>
            <a:off x="5568840" y="896760"/>
            <a:ext cx="2857680" cy="663480"/>
            <a:chOff x="5568840" y="896760"/>
            <a:chExt cx="2857680" cy="663480"/>
          </a:xfrm>
        </p:grpSpPr>
        <p:sp>
          <p:nvSpPr>
            <p:cNvPr id="290" name="Text Box 56"/>
            <p:cNvSpPr/>
            <p:nvPr/>
          </p:nvSpPr>
          <p:spPr>
            <a:xfrm>
              <a:off x="6035760" y="1002960"/>
              <a:ext cx="2390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ему ра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57"/>
            <p:cNvSpPr/>
            <p:nvPr/>
          </p:nvSpPr>
          <p:spPr>
            <a:xfrm>
              <a:off x="5568840" y="896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Прямоугольник 10"/>
          <p:cNvSpPr/>
          <p:nvPr/>
        </p:nvSpPr>
        <p:spPr>
          <a:xfrm>
            <a:off x="5486760" y="223992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6"/>
          <p:cNvSpPr/>
          <p:nvPr/>
        </p:nvSpPr>
        <p:spPr>
          <a:xfrm>
            <a:off x="384120" y="280980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на экран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612720" y="3246480"/>
            <a:ext cx="4789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3"/>
          <p:cNvSpPr/>
          <p:nvPr/>
        </p:nvSpPr>
        <p:spPr>
          <a:xfrm>
            <a:off x="5474160" y="3557520"/>
            <a:ext cx="36360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4"/>
          <p:cNvSpPr/>
          <p:nvPr/>
        </p:nvSpPr>
        <p:spPr>
          <a:xfrm>
            <a:off x="5476320" y="3940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5"/>
          <p:cNvSpPr/>
          <p:nvPr/>
        </p:nvSpPr>
        <p:spPr>
          <a:xfrm>
            <a:off x="5475600" y="435600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3F7C-5363-421C-ABFB-675DCBDA40B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6"/>
          <p:cNvSpPr/>
          <p:nvPr/>
        </p:nvSpPr>
        <p:spPr>
          <a:xfrm>
            <a:off x="384120" y="809640"/>
            <a:ext cx="60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условных оператор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2720" y="1270080"/>
            <a:ext cx="47894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Да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5"/>
          <p:cNvGrpSpPr/>
          <p:nvPr/>
        </p:nvGrpSpPr>
        <p:grpSpPr>
          <a:xfrm>
            <a:off x="3970440" y="2543040"/>
            <a:ext cx="4142880" cy="663480"/>
            <a:chOff x="3970440" y="2543040"/>
            <a:chExt cx="4142880" cy="663480"/>
          </a:xfrm>
        </p:grpSpPr>
        <p:sp>
          <p:nvSpPr>
            <p:cNvPr id="303" name="Text Box 56"/>
            <p:cNvSpPr/>
            <p:nvPr/>
          </p:nvSpPr>
          <p:spPr>
            <a:xfrm>
              <a:off x="4437000" y="2649240"/>
              <a:ext cx="367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печатает «Да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7"/>
            <p:cNvSpPr/>
            <p:nvPr/>
          </p:nvSpPr>
          <p:spPr>
            <a:xfrm>
              <a:off x="3970440" y="2543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D992-4393-4BC7-941C-6EF92B0A7DF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цикл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612720" y="1270080"/>
            <a:ext cx="6797880" cy="2506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, 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Угадал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55"/>
          <p:cNvGrpSpPr/>
          <p:nvPr/>
        </p:nvGrpSpPr>
        <p:grpSpPr>
          <a:xfrm>
            <a:off x="2390760" y="3967200"/>
            <a:ext cx="5078520" cy="663480"/>
            <a:chOff x="2390760" y="3967200"/>
            <a:chExt cx="5078520" cy="663480"/>
          </a:xfrm>
        </p:grpSpPr>
        <p:sp>
          <p:nvSpPr>
            <p:cNvPr id="310" name="Text Box 56"/>
            <p:cNvSpPr/>
            <p:nvPr/>
          </p:nvSpPr>
          <p:spPr>
            <a:xfrm>
              <a:off x="2857680" y="4073400"/>
              <a:ext cx="4611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напечат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«Угадал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7"/>
            <p:cNvSpPr/>
            <p:nvPr/>
          </p:nvSpPr>
          <p:spPr>
            <a:xfrm>
              <a:off x="2390760" y="39672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AutoShape 8"/>
          <p:cNvSpPr/>
          <p:nvPr/>
        </p:nvSpPr>
        <p:spPr>
          <a:xfrm flipH="1">
            <a:off x="4603680" y="2014560"/>
            <a:ext cx="3090960" cy="763560"/>
          </a:xfrm>
          <a:prstGeom prst="wedgeRoundRectCallout">
            <a:avLst>
              <a:gd name="adj1" fmla="val 44277"/>
              <a:gd name="adj2" fmla="val 79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 двух чисел в одной стр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17B6-041A-44AA-A86B-64203B7F3DB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6"/>
          <p:cNvSpPr/>
          <p:nvPr/>
        </p:nvSpPr>
        <p:spPr>
          <a:xfrm>
            <a:off x="397440" y="82872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7"/>
          <p:cNvSpPr/>
          <p:nvPr/>
        </p:nvSpPr>
        <p:spPr>
          <a:xfrm>
            <a:off x="500400" y="321156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439560" y="3656160"/>
            <a:ext cx="4478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.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30200" y="1322280"/>
            <a:ext cx="70167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re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:=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0"/>
          <p:cNvSpPr/>
          <p:nvPr/>
        </p:nvSpPr>
        <p:spPr>
          <a:xfrm>
            <a:off x="702720" y="2070000"/>
            <a:ext cx="72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Группа 30"/>
          <p:cNvGrpSpPr/>
          <p:nvPr/>
        </p:nvGrpSpPr>
        <p:grpSpPr>
          <a:xfrm>
            <a:off x="1554120" y="2417760"/>
            <a:ext cx="5127480" cy="1055520"/>
            <a:chOff x="1554120" y="2417760"/>
            <a:chExt cx="5127480" cy="1055520"/>
          </a:xfrm>
        </p:grpSpPr>
        <p:sp>
          <p:nvSpPr>
            <p:cNvPr id="321" name="Полилиния 12"/>
            <p:cNvSpPr/>
            <p:nvPr/>
          </p:nvSpPr>
          <p:spPr>
            <a:xfrm>
              <a:off x="1554120" y="2417760"/>
              <a:ext cx="384120" cy="504720"/>
            </a:xfrm>
            <a:custGeom>
              <a:avLst/>
              <a:gdLst/>
              <a:ahLst/>
              <a:rect l="l" t="t" r="r" b="b"/>
              <a:pathLst>
                <a:path w="384175" h="504825">
                  <a:moveTo>
                    <a:pt x="384175" y="273050"/>
                  </a:moveTo>
                  <a:lnTo>
                    <a:pt x="0" y="0"/>
                  </a:lnTo>
                  <a:lnTo>
                    <a:pt x="254000" y="504825"/>
                  </a:lnTo>
                  <a:lnTo>
                    <a:pt x="384175" y="2730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8"/>
            <p:cNvSpPr/>
            <p:nvPr/>
          </p:nvSpPr>
          <p:spPr>
            <a:xfrm flipH="1">
              <a:off x="1807200" y="2693880"/>
              <a:ext cx="4874040" cy="77940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пециальная переменная для записи результата фун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Группа 33"/>
          <p:cNvGrpSpPr/>
          <p:nvPr/>
        </p:nvGrpSpPr>
        <p:grpSpPr>
          <a:xfrm>
            <a:off x="1279440" y="1353960"/>
            <a:ext cx="1486080" cy="860760"/>
            <a:chOff x="1279440" y="1353960"/>
            <a:chExt cx="1486080" cy="860760"/>
          </a:xfrm>
        </p:grpSpPr>
        <p:sp>
          <p:nvSpPr>
            <p:cNvPr id="324" name="Полилиния 31"/>
            <p:cNvSpPr/>
            <p:nvPr/>
          </p:nvSpPr>
          <p:spPr>
            <a:xfrm>
              <a:off x="1279440" y="1757160"/>
              <a:ext cx="824400" cy="457560"/>
            </a:xfrm>
            <a:custGeom>
              <a:avLst/>
              <a:gdLst>
                <a:gd name="textAreaLeft" fmla="*/ 0 w 824400"/>
                <a:gd name="textAreaRight" fmla="*/ 824760 w 824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47594702" h="2139078">
                  <a:moveTo>
                    <a:pt x="47594702" y="0"/>
                  </a:moveTo>
                  <a:cubicBezTo>
                    <a:pt x="46113957" y="331915"/>
                    <a:pt x="16" y="1910174"/>
                    <a:pt x="555969" y="2139078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Скругленный прямоугольник 32"/>
            <p:cNvSpPr/>
            <p:nvPr/>
          </p:nvSpPr>
          <p:spPr>
            <a:xfrm>
              <a:off x="2088360" y="1353960"/>
              <a:ext cx="67716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 из двух (трёх)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9902-45D3-4CEF-978D-46FCF4A6C2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определяет наибольшее из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600120" y="2624040"/>
            <a:ext cx="362736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 &gt; b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3"/>
          <p:cNvGrpSpPr/>
          <p:nvPr/>
        </p:nvGrpSpPr>
        <p:grpSpPr>
          <a:xfrm>
            <a:off x="617400" y="1623960"/>
            <a:ext cx="5931000" cy="952560"/>
            <a:chOff x="617400" y="1623960"/>
            <a:chExt cx="5931000" cy="952560"/>
          </a:xfrm>
        </p:grpSpPr>
        <p:sp>
          <p:nvSpPr>
            <p:cNvPr id="331" name="AutoShape 31"/>
            <p:cNvSpPr/>
            <p:nvPr/>
          </p:nvSpPr>
          <p:spPr>
            <a:xfrm>
              <a:off x="617400" y="1623960"/>
              <a:ext cx="59310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0"/>
            <p:cNvSpPr/>
            <p:nvPr/>
          </p:nvSpPr>
          <p:spPr>
            <a:xfrm>
              <a:off x="3145680" y="1721880"/>
              <a:ext cx="174960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9"/>
            <p:cNvSpPr/>
            <p:nvPr/>
          </p:nvSpPr>
          <p:spPr>
            <a:xfrm>
              <a:off x="4894200" y="208764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28"/>
            <p:cNvSpPr/>
            <p:nvPr/>
          </p:nvSpPr>
          <p:spPr>
            <a:xfrm>
              <a:off x="802080" y="208764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7"/>
            <p:cNvSpPr/>
            <p:nvPr/>
          </p:nvSpPr>
          <p:spPr>
            <a:xfrm>
              <a:off x="1265400" y="162396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6"/>
            <p:cNvSpPr/>
            <p:nvPr/>
          </p:nvSpPr>
          <p:spPr>
            <a:xfrm>
              <a:off x="5664960" y="162396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5"/>
            <p:cNvSpPr/>
            <p:nvPr/>
          </p:nvSpPr>
          <p:spPr>
            <a:xfrm>
              <a:off x="617400" y="209412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4"/>
            <p:cNvSpPr/>
            <p:nvPr/>
          </p:nvSpPr>
          <p:spPr>
            <a:xfrm>
              <a:off x="4919760" y="209412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Прямоугольник 20"/>
          <p:cNvSpPr/>
          <p:nvPr/>
        </p:nvSpPr>
        <p:spPr>
          <a:xfrm>
            <a:off x="90036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21"/>
          <p:cNvSpPr/>
          <p:nvPr/>
        </p:nvSpPr>
        <p:spPr>
          <a:xfrm>
            <a:off x="505548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55"/>
          <p:cNvGrpSpPr/>
          <p:nvPr/>
        </p:nvGrpSpPr>
        <p:grpSpPr>
          <a:xfrm>
            <a:off x="4395960" y="2610000"/>
            <a:ext cx="4396680" cy="931680"/>
            <a:chOff x="4395960" y="2610000"/>
            <a:chExt cx="4396680" cy="931680"/>
          </a:xfrm>
        </p:grpSpPr>
        <p:sp>
          <p:nvSpPr>
            <p:cNvPr id="342" name="Text Box 56"/>
            <p:cNvSpPr/>
            <p:nvPr/>
          </p:nvSpPr>
          <p:spPr>
            <a:xfrm>
              <a:off x="4862520" y="2716200"/>
              <a:ext cx="3930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 её помощью найт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максимум из трёх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57"/>
            <p:cNvSpPr/>
            <p:nvPr/>
          </p:nvSpPr>
          <p:spPr>
            <a:xfrm>
              <a:off x="4395960" y="2610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Rectangle 5"/>
          <p:cNvSpPr/>
          <p:nvPr/>
        </p:nvSpPr>
        <p:spPr>
          <a:xfrm>
            <a:off x="2705040" y="4484520"/>
            <a:ext cx="5405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 b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b)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олилиния 26"/>
          <p:cNvSpPr/>
          <p:nvPr/>
        </p:nvSpPr>
        <p:spPr>
          <a:xfrm>
            <a:off x="1746360" y="2968560"/>
            <a:ext cx="2754360" cy="1982880"/>
          </a:xfrm>
          <a:custGeom>
            <a:avLst/>
            <a:gdLst>
              <a:gd name="textAreaLeft" fmla="*/ 0 w 2754360"/>
              <a:gd name="textAreaRight" fmla="*/ 2754720 w 2754360"/>
              <a:gd name="textAreaTop" fmla="*/ 0 h 1982880"/>
              <a:gd name="textAreaBottom" fmla="*/ 1983240 h 1982880"/>
            </a:gdLst>
            <a:ahLst/>
            <a:rect l="textAreaLeft" t="textAreaTop" r="textAreaRight" b="textAreaBottom"/>
            <a:pathLst>
              <a:path w="3795388" h="3537654">
                <a:moveTo>
                  <a:pt x="3786572" y="3537654"/>
                </a:moveTo>
                <a:cubicBezTo>
                  <a:pt x="3795388" y="2584884"/>
                  <a:pt x="975029" y="676629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27"/>
          <p:cNvSpPr/>
          <p:nvPr/>
        </p:nvSpPr>
        <p:spPr>
          <a:xfrm>
            <a:off x="1924200" y="2992320"/>
            <a:ext cx="3597120" cy="1959120"/>
          </a:xfrm>
          <a:custGeom>
            <a:avLst/>
            <a:gdLst>
              <a:gd name="textAreaLeft" fmla="*/ 0 w 3597120"/>
              <a:gd name="textAreaRight" fmla="*/ 3597480 w 3597120"/>
              <a:gd name="textAreaTop" fmla="*/ 0 h 1959120"/>
              <a:gd name="textAreaBottom" fmla="*/ 1959480 h 1959120"/>
            </a:gdLst>
            <a:ahLst/>
            <a:rect l="textAreaLeft" t="textAreaTop" r="textAreaRight" b="textAreaBottom"/>
            <a:pathLst>
              <a:path w="4622150" h="3473039">
                <a:moveTo>
                  <a:pt x="4613334" y="3473039"/>
                </a:moveTo>
                <a:cubicBezTo>
                  <a:pt x="4622150" y="2520269"/>
                  <a:pt x="1041171" y="466631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492B-1917-4C06-8C2D-E55BE760F53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ычисляет сумму значений цифр натурального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538200" y="1744560"/>
            <a:ext cx="845496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umDigi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накапливаем сумму с 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!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выделим последнюю цифру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+= d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добавим к сумме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далим последнюю цифру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803160" y="4863960"/>
            <a:ext cx="47894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umDigit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6"/>
          <p:cNvSpPr/>
          <p:nvPr/>
        </p:nvSpPr>
        <p:spPr>
          <a:xfrm>
            <a:off x="546120" y="44244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FE7C-B4B5-48B4-A967-24AD824B11A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369720" y="809640"/>
            <a:ext cx="842040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вычисляет среднее арифметическое пяти целых чисе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5 чисел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2 3 4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еднее: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цифр в десятичной записи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цифр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B7BC-A6C5-4B6A-A232-091BC12D0F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нулей в двоичной записи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нулей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A9C8-A54B-4006-8233-0B5D0AC4F4D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ческая 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функция, возвращающая логическое значения (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6"/>
          <p:cNvSpPr/>
          <p:nvPr/>
        </p:nvSpPr>
        <p:spPr>
          <a:xfrm>
            <a:off x="534960" y="1690560"/>
            <a:ext cx="74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применять операц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шно ли выполнена операц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ют ли данные каким-то свойств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а типа под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D565-2BE2-4C58-9E6E-D8CA2D4433D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409760" y="1798560"/>
            <a:ext cx="2232000" cy="474840"/>
          </a:xfrm>
          <a:prstGeom prst="rect">
            <a:avLst/>
          </a:prstGeom>
          <a:solidFill>
            <a:srgbClr val="c4f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946760" y="1798560"/>
            <a:ext cx="2232000" cy="474840"/>
          </a:xfrm>
          <a:prstGeom prst="rect">
            <a:avLst/>
          </a:prstGeom>
          <a:solidFill>
            <a:srgbClr val="a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Группа 8"/>
          <p:cNvGrpSpPr/>
          <p:nvPr/>
        </p:nvGrpSpPr>
        <p:grpSpPr>
          <a:xfrm>
            <a:off x="3642480" y="1409400"/>
            <a:ext cx="1310040" cy="406800"/>
            <a:chOff x="3642480" y="1409400"/>
            <a:chExt cx="1310040" cy="406800"/>
          </a:xfrm>
        </p:grpSpPr>
        <p:cxnSp>
          <p:nvCxnSpPr>
            <p:cNvPr id="177" name="AutoShape 4"/>
            <p:cNvCxnSpPr/>
            <p:nvPr/>
          </p:nvCxnSpPr>
          <p:spPr>
            <a:xfrm flipH="1">
              <a:off x="3642480" y="1409400"/>
              <a:ext cx="60300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78" name="AutoShape 3"/>
            <p:cNvCxnSpPr/>
            <p:nvPr/>
          </p:nvCxnSpPr>
          <p:spPr>
            <a:xfrm>
              <a:off x="4245120" y="1409400"/>
              <a:ext cx="70776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</p:grpSp>
      <p:sp>
        <p:nvSpPr>
          <p:cNvPr id="179" name="Text Box 10"/>
          <p:cNvSpPr/>
          <p:nvPr/>
        </p:nvSpPr>
        <p:spPr>
          <a:xfrm>
            <a:off x="3029040" y="934920"/>
            <a:ext cx="2419200" cy="4748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1120320" y="2336760"/>
            <a:ext cx="316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яют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4879440" y="2336760"/>
            <a:ext cx="388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ют некотор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5"/>
          <p:cNvGrpSpPr/>
          <p:nvPr/>
        </p:nvGrpSpPr>
        <p:grpSpPr>
          <a:xfrm>
            <a:off x="324000" y="2849400"/>
            <a:ext cx="4781520" cy="663480"/>
            <a:chOff x="324000" y="2849400"/>
            <a:chExt cx="4781520" cy="663480"/>
          </a:xfrm>
        </p:grpSpPr>
        <p:sp>
          <p:nvSpPr>
            <p:cNvPr id="183" name="Text Box 56"/>
            <p:cNvSpPr/>
            <p:nvPr/>
          </p:nvSpPr>
          <p:spPr>
            <a:xfrm>
              <a:off x="790920" y="2955600"/>
              <a:ext cx="4314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цедура или функц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57"/>
            <p:cNvSpPr/>
            <p:nvPr/>
          </p:nvSpPr>
          <p:spPr>
            <a:xfrm>
              <a:off x="324000" y="2849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Прямоугольник 14"/>
          <p:cNvSpPr/>
          <p:nvPr/>
        </p:nvSpPr>
        <p:spPr>
          <a:xfrm>
            <a:off x="914400" y="3403440"/>
            <a:ext cx="8064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рисует окружность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ределяет площадь к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ычисляет значение синуса у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зменяет режим работы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возводит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ен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включает двигатель автомоби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проверяет оставшееся количество бензина в б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измеряет высоту полёта самолё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CB39-758D-45A9-8D17-2CBAE720514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527040" y="2030400"/>
            <a:ext cx="39862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384120" y="822240"/>
            <a:ext cx="84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озвращает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она получила чётное число и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нечёт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2"/>
          <p:cNvSpPr/>
          <p:nvPr/>
        </p:nvSpPr>
        <p:spPr>
          <a:xfrm>
            <a:off x="3905280" y="2593800"/>
            <a:ext cx="48117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Умножение 13"/>
          <p:cNvSpPr/>
          <p:nvPr/>
        </p:nvSpPr>
        <p:spPr>
          <a:xfrm>
            <a:off x="1333440" y="2371680"/>
            <a:ext cx="1643040" cy="1643040"/>
          </a:xfrm>
          <a:custGeom>
            <a:avLst/>
            <a:gdLst/>
            <a:ahLst/>
            <a:rect l="l" t="t" r="r" b="b"/>
            <a:pathLst>
              <a:path w="1643063" h="1643063">
                <a:moveTo>
                  <a:pt x="342428" y="446817"/>
                </a:moveTo>
                <a:lnTo>
                  <a:pt x="446817" y="342428"/>
                </a:lnTo>
                <a:lnTo>
                  <a:pt x="821532" y="717142"/>
                </a:lnTo>
                <a:lnTo>
                  <a:pt x="1196246" y="342428"/>
                </a:lnTo>
                <a:lnTo>
                  <a:pt x="1300635" y="446817"/>
                </a:lnTo>
                <a:lnTo>
                  <a:pt x="925921" y="821532"/>
                </a:lnTo>
                <a:lnTo>
                  <a:pt x="1300635" y="1196246"/>
                </a:lnTo>
                <a:lnTo>
                  <a:pt x="1196246" y="1300635"/>
                </a:lnTo>
                <a:lnTo>
                  <a:pt x="821532" y="925921"/>
                </a:lnTo>
                <a:lnTo>
                  <a:pt x="446817" y="1300635"/>
                </a:lnTo>
                <a:lnTo>
                  <a:pt x="342428" y="1196246"/>
                </a:lnTo>
                <a:lnTo>
                  <a:pt x="717142" y="821532"/>
                </a:lnTo>
                <a:lnTo>
                  <a:pt x="342428" y="4468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ы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6860-4AB5-4C94-881C-2191EBD1C7E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вная функ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функция, которая вызывает сама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384120" y="1736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рекурсивную функцию, которая вычисляет сумму цифр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55"/>
          <p:cNvGrpSpPr/>
          <p:nvPr/>
        </p:nvGrpSpPr>
        <p:grpSpPr>
          <a:xfrm>
            <a:off x="452520" y="2575080"/>
            <a:ext cx="7857720" cy="663480"/>
            <a:chOff x="452520" y="2575080"/>
            <a:chExt cx="7857720" cy="663480"/>
          </a:xfrm>
        </p:grpSpPr>
        <p:sp>
          <p:nvSpPr>
            <p:cNvPr id="374" name="Text Box 56"/>
            <p:cNvSpPr/>
            <p:nvPr/>
          </p:nvSpPr>
          <p:spPr>
            <a:xfrm>
              <a:off x="919080" y="2681280"/>
              <a:ext cx="7391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формулировать решение рекурси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57"/>
            <p:cNvSpPr/>
            <p:nvPr/>
          </p:nvSpPr>
          <p:spPr>
            <a:xfrm>
              <a:off x="452520" y="2575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Прямоугольник 6"/>
          <p:cNvSpPr/>
          <p:nvPr/>
        </p:nvSpPr>
        <p:spPr>
          <a:xfrm>
            <a:off x="984240" y="3137040"/>
            <a:ext cx="78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у цифр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выразить через сумму цифр другого (меньшего)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9"/>
          <p:cNvSpPr/>
          <p:nvPr/>
        </p:nvSpPr>
        <p:spPr>
          <a:xfrm>
            <a:off x="411120" y="4044960"/>
            <a:ext cx="83980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цифр числа N равна значен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 плюс сумма цифр числа, полученного отбрасывани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0"/>
          <p:cNvSpPr/>
          <p:nvPr/>
        </p:nvSpPr>
        <p:spPr>
          <a:xfrm>
            <a:off x="768240" y="5432400"/>
            <a:ext cx="70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 =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олилиния 11"/>
          <p:cNvSpPr/>
          <p:nvPr/>
        </p:nvSpPr>
        <p:spPr>
          <a:xfrm>
            <a:off x="3274920" y="5160960"/>
            <a:ext cx="1030320" cy="406440"/>
          </a:xfrm>
          <a:custGeom>
            <a:avLst/>
            <a:gdLst>
              <a:gd name="textAreaLeft" fmla="*/ 0 w 1030320"/>
              <a:gd name="textAreaRight" fmla="*/ 1030680 w 103032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71640" h="567204">
                <a:moveTo>
                  <a:pt x="0" y="454128"/>
                </a:moveTo>
                <a:cubicBezTo>
                  <a:pt x="141098" y="212119"/>
                  <a:pt x="925426" y="0"/>
                  <a:pt x="1471640" y="56720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олилиния 12"/>
          <p:cNvSpPr/>
          <p:nvPr/>
        </p:nvSpPr>
        <p:spPr>
          <a:xfrm flipV="1">
            <a:off x="2754360" y="5796720"/>
            <a:ext cx="4145040" cy="892440"/>
          </a:xfrm>
          <a:custGeom>
            <a:avLst/>
            <a:gdLst>
              <a:gd name="textAreaLeft" fmla="*/ 0 w 4145040"/>
              <a:gd name="textAreaRight" fmla="*/ 4145400 w 4145040"/>
              <a:gd name="textAreaTop" fmla="*/ -360 h 892440"/>
              <a:gd name="textAreaBottom" fmla="*/ 892440 h 892440"/>
            </a:gdLst>
            <a:ahLst/>
            <a:rect l="textAreaLeft" t="textAreaTop" r="textAreaRight" b="textAreaBottom"/>
            <a:pathLst>
              <a:path w="1471640" h="1245657">
                <a:moveTo>
                  <a:pt x="0" y="1132581"/>
                </a:moveTo>
                <a:cubicBezTo>
                  <a:pt x="141098" y="890572"/>
                  <a:pt x="1052859" y="0"/>
                  <a:pt x="1471640" y="1245657"/>
                </a:cubicBezTo>
              </a:path>
            </a:pathLst>
          </a:custGeom>
          <a:noFill/>
          <a:ln w="12600">
            <a:solidFill>
              <a:srgbClr val="00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функ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23A1-339C-4C30-A46D-0384DB9A3AB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642960" y="1244520"/>
            <a:ext cx="53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туральное число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%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/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мма цифр числа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s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369720" y="824040"/>
            <a:ext cx="35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мма цифр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8"/>
          <p:cNvSpPr/>
          <p:nvPr/>
        </p:nvSpPr>
        <p:spPr>
          <a:xfrm flipH="1">
            <a:off x="5381640" y="1212840"/>
            <a:ext cx="2790720" cy="477720"/>
          </a:xfrm>
          <a:prstGeom prst="wedgeRoundRectCallout">
            <a:avLst>
              <a:gd name="adj1" fmla="val 93782"/>
              <a:gd name="adj2" fmla="val 771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яя циф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8"/>
          <p:cNvSpPr/>
          <p:nvPr/>
        </p:nvSpPr>
        <p:spPr>
          <a:xfrm flipH="1">
            <a:off x="5554800" y="1790640"/>
            <a:ext cx="2790720" cy="895320"/>
          </a:xfrm>
          <a:prstGeom prst="wedgeRoundRectCallout">
            <a:avLst>
              <a:gd name="adj1" fmla="val 101662"/>
              <a:gd name="adj2" fmla="val -18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без последней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55"/>
          <p:cNvGrpSpPr/>
          <p:nvPr/>
        </p:nvGrpSpPr>
        <p:grpSpPr>
          <a:xfrm>
            <a:off x="452520" y="3513240"/>
            <a:ext cx="2972880" cy="663480"/>
            <a:chOff x="452520" y="3513240"/>
            <a:chExt cx="2972880" cy="663480"/>
          </a:xfrm>
        </p:grpSpPr>
        <p:sp>
          <p:nvSpPr>
            <p:cNvPr id="388" name="Text Box 56"/>
            <p:cNvSpPr/>
            <p:nvPr/>
          </p:nvSpPr>
          <p:spPr>
            <a:xfrm>
              <a:off x="919080" y="3619440"/>
              <a:ext cx="250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забыл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57"/>
            <p:cNvSpPr/>
            <p:nvPr/>
          </p:nvSpPr>
          <p:spPr>
            <a:xfrm>
              <a:off x="452520" y="35132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5"/>
          <p:cNvGrpSpPr/>
          <p:nvPr/>
        </p:nvGrpSpPr>
        <p:grpSpPr>
          <a:xfrm>
            <a:off x="3913200" y="3513240"/>
            <a:ext cx="3691080" cy="663480"/>
            <a:chOff x="3913200" y="3513240"/>
            <a:chExt cx="3691080" cy="663480"/>
          </a:xfrm>
        </p:grpSpPr>
        <p:sp>
          <p:nvSpPr>
            <p:cNvPr id="391" name="Text Box 56"/>
            <p:cNvSpPr/>
            <p:nvPr/>
          </p:nvSpPr>
          <p:spPr>
            <a:xfrm>
              <a:off x="4380120" y="3619440"/>
              <a:ext cx="322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останов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57"/>
            <p:cNvSpPr/>
            <p:nvPr/>
          </p:nvSpPr>
          <p:spPr>
            <a:xfrm>
              <a:off x="3913200" y="3513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 (рекурс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78A7-6353-41BF-A7AA-DC8824BB166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3"/>
          <p:cNvSpPr/>
          <p:nvPr/>
        </p:nvSpPr>
        <p:spPr>
          <a:xfrm>
            <a:off x="457200" y="919080"/>
            <a:ext cx="80485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55"/>
          <p:cNvGrpSpPr/>
          <p:nvPr/>
        </p:nvGrpSpPr>
        <p:grpSpPr>
          <a:xfrm>
            <a:off x="498600" y="3349800"/>
            <a:ext cx="4779360" cy="663480"/>
            <a:chOff x="498600" y="3349800"/>
            <a:chExt cx="4779360" cy="663480"/>
          </a:xfrm>
        </p:grpSpPr>
        <p:sp>
          <p:nvSpPr>
            <p:cNvPr id="397" name="Text Box 56"/>
            <p:cNvSpPr/>
            <p:nvPr/>
          </p:nvSpPr>
          <p:spPr>
            <a:xfrm>
              <a:off x="965160" y="3456000"/>
              <a:ext cx="4312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де рекурсивный вызов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57"/>
            <p:cNvSpPr/>
            <p:nvPr/>
          </p:nvSpPr>
          <p:spPr>
            <a:xfrm>
              <a:off x="498600" y="3349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Прямоугольник 7"/>
          <p:cNvSpPr/>
          <p:nvPr/>
        </p:nvSpPr>
        <p:spPr>
          <a:xfrm>
            <a:off x="820800" y="1281240"/>
            <a:ext cx="4190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55"/>
          <p:cNvGrpSpPr/>
          <p:nvPr/>
        </p:nvGrpSpPr>
        <p:grpSpPr>
          <a:xfrm>
            <a:off x="5205240" y="1195560"/>
            <a:ext cx="2579760" cy="663480"/>
            <a:chOff x="5205240" y="1195560"/>
            <a:chExt cx="2579760" cy="663480"/>
          </a:xfrm>
        </p:grpSpPr>
        <p:sp>
          <p:nvSpPr>
            <p:cNvPr id="401" name="Text Box 56"/>
            <p:cNvSpPr/>
            <p:nvPr/>
          </p:nvSpPr>
          <p:spPr>
            <a:xfrm>
              <a:off x="5672160" y="1301760"/>
              <a:ext cx="2112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эт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57"/>
            <p:cNvSpPr/>
            <p:nvPr/>
          </p:nvSpPr>
          <p:spPr>
            <a:xfrm>
              <a:off x="5205240" y="1195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A80D-5088-418A-A501-6F571323B00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431640" y="2502000"/>
            <a:ext cx="52898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55"/>
          <p:cNvGrpSpPr/>
          <p:nvPr/>
        </p:nvGrpSpPr>
        <p:grpSpPr>
          <a:xfrm>
            <a:off x="5823000" y="1820880"/>
            <a:ext cx="2800440" cy="663480"/>
            <a:chOff x="5823000" y="1820880"/>
            <a:chExt cx="2800440" cy="663480"/>
          </a:xfrm>
        </p:grpSpPr>
        <p:sp>
          <p:nvSpPr>
            <p:cNvPr id="190" name="Text Box 56"/>
            <p:cNvSpPr/>
            <p:nvPr/>
          </p:nvSpPr>
          <p:spPr>
            <a:xfrm>
              <a:off x="6289920" y="1927080"/>
              <a:ext cx="2333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57"/>
            <p:cNvSpPr/>
            <p:nvPr/>
          </p:nvSpPr>
          <p:spPr>
            <a:xfrm>
              <a:off x="5823000" y="1820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 flipH="1">
            <a:off x="1389240" y="3567600"/>
            <a:ext cx="2342880" cy="732600"/>
          </a:xfrm>
          <a:prstGeom prst="wedgeRoundRectCallout">
            <a:avLst>
              <a:gd name="adj1" fmla="val 66699"/>
              <a:gd name="adj2" fmla="val -6094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-то опера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3"/>
          <p:cNvSpPr/>
          <p:nvPr/>
        </p:nvSpPr>
        <p:spPr>
          <a:xfrm>
            <a:off x="431640" y="1641600"/>
            <a:ext cx="5308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 flipH="1">
            <a:off x="3179880" y="2622960"/>
            <a:ext cx="2342880" cy="732600"/>
          </a:xfrm>
          <a:prstGeom prst="wedgeRoundRectCallout">
            <a:avLst>
              <a:gd name="adj1" fmla="val 83856"/>
              <a:gd name="adj2" fmla="val 1915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5"/>
          <p:cNvGrpSpPr/>
          <p:nvPr/>
        </p:nvGrpSpPr>
        <p:grpSpPr>
          <a:xfrm>
            <a:off x="495360" y="4548240"/>
            <a:ext cx="396720" cy="396720"/>
            <a:chOff x="495360" y="4548240"/>
            <a:chExt cx="396720" cy="396720"/>
          </a:xfrm>
        </p:grpSpPr>
        <p:sp>
          <p:nvSpPr>
            <p:cNvPr id="196" name="Oval 6"/>
            <p:cNvSpPr/>
            <p:nvPr/>
          </p:nvSpPr>
          <p:spPr>
            <a:xfrm>
              <a:off x="495360" y="4548240"/>
              <a:ext cx="39672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7"/>
            <p:cNvGrpSpPr/>
            <p:nvPr/>
          </p:nvGrpSpPr>
          <p:grpSpPr>
            <a:xfrm>
              <a:off x="549000" y="4595760"/>
              <a:ext cx="298440" cy="298440"/>
              <a:chOff x="549000" y="4595760"/>
              <a:chExt cx="298440" cy="298440"/>
            </a:xfrm>
          </p:grpSpPr>
          <p:sp>
            <p:nvSpPr>
              <p:cNvPr id="198" name="Rectangle 8"/>
              <p:cNvSpPr/>
              <p:nvPr/>
            </p:nvSpPr>
            <p:spPr>
              <a:xfrm>
                <a:off x="549000" y="4696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9"/>
              <p:cNvSpPr/>
              <p:nvPr/>
            </p:nvSpPr>
            <p:spPr>
              <a:xfrm rot="16200000">
                <a:off x="550080" y="4696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Freeform 10"/>
            <p:cNvSpPr/>
            <p:nvPr/>
          </p:nvSpPr>
          <p:spPr>
            <a:xfrm>
              <a:off x="548640" y="4595400"/>
              <a:ext cx="298800" cy="29844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14"/>
          <p:cNvSpPr/>
          <p:nvPr/>
        </p:nvSpPr>
        <p:spPr>
          <a:xfrm>
            <a:off x="998640" y="4511520"/>
            <a:ext cx="71737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вызывать сколько угодно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ть – в одном 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 flipH="1">
            <a:off x="1047600" y="915840"/>
            <a:ext cx="3308400" cy="519120"/>
          </a:xfrm>
          <a:prstGeom prst="wedgeRoundRectCallout">
            <a:avLst>
              <a:gd name="adj1" fmla="val 57245"/>
              <a:gd name="adj2" fmla="val 104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e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олилиния 29"/>
          <p:cNvSpPr/>
          <p:nvPr/>
        </p:nvSpPr>
        <p:spPr>
          <a:xfrm>
            <a:off x="336600" y="2030400"/>
            <a:ext cx="468360" cy="446040"/>
          </a:xfrm>
          <a:custGeom>
            <a:avLst/>
            <a:gdLst>
              <a:gd name="textAreaLeft" fmla="*/ 0 w 468360"/>
              <a:gd name="textAreaRight" fmla="*/ 468720 w 46836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13657" h="544285">
                <a:moveTo>
                  <a:pt x="0" y="0"/>
                </a:moveTo>
                <a:lnTo>
                  <a:pt x="402772" y="0"/>
                </a:lnTo>
                <a:lnTo>
                  <a:pt x="413657" y="544285"/>
                </a:lnTo>
                <a:lnTo>
                  <a:pt x="0" y="544285"/>
                </a:ln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ии разной дли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B77A-2D91-4B99-837B-4EBEEC99A30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3"/>
          <p:cNvSpPr/>
          <p:nvPr/>
        </p:nvSpPr>
        <p:spPr>
          <a:xfrm>
            <a:off x="431640" y="92088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431640" y="183672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5"/>
          <p:cNvGrpSpPr/>
          <p:nvPr/>
        </p:nvGrpSpPr>
        <p:grpSpPr>
          <a:xfrm>
            <a:off x="5683320" y="1108080"/>
            <a:ext cx="3158640" cy="663480"/>
            <a:chOff x="5683320" y="1108080"/>
            <a:chExt cx="3158640" cy="663480"/>
          </a:xfrm>
        </p:grpSpPr>
        <p:sp>
          <p:nvSpPr>
            <p:cNvPr id="209" name="Text Box 56"/>
            <p:cNvSpPr/>
            <p:nvPr/>
          </p:nvSpPr>
          <p:spPr>
            <a:xfrm>
              <a:off x="6149880" y="1214280"/>
              <a:ext cx="2692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улучш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57"/>
            <p:cNvSpPr/>
            <p:nvPr/>
          </p:nvSpPr>
          <p:spPr>
            <a:xfrm>
              <a:off x="5683320" y="1108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Умножение 8"/>
          <p:cNvSpPr/>
          <p:nvPr/>
        </p:nvSpPr>
        <p:spPr>
          <a:xfrm>
            <a:off x="1874880" y="946080"/>
            <a:ext cx="973080" cy="973080"/>
          </a:xfrm>
          <a:custGeom>
            <a:avLst/>
            <a:gdLst/>
            <a:ahLst/>
            <a:rect l="l" t="t" r="r" b="b"/>
            <a:pathLst>
              <a:path w="973137" h="973138">
                <a:moveTo>
                  <a:pt x="202810" y="264637"/>
                </a:moveTo>
                <a:lnTo>
                  <a:pt x="264637" y="202810"/>
                </a:lnTo>
                <a:lnTo>
                  <a:pt x="486569" y="424742"/>
                </a:lnTo>
                <a:lnTo>
                  <a:pt x="708500" y="202810"/>
                </a:lnTo>
                <a:lnTo>
                  <a:pt x="770327" y="264637"/>
                </a:lnTo>
                <a:lnTo>
                  <a:pt x="548395" y="486569"/>
                </a:lnTo>
                <a:lnTo>
                  <a:pt x="770327" y="708501"/>
                </a:lnTo>
                <a:lnTo>
                  <a:pt x="708500" y="770328"/>
                </a:lnTo>
                <a:lnTo>
                  <a:pt x="486569" y="548396"/>
                </a:lnTo>
                <a:lnTo>
                  <a:pt x="264637" y="770328"/>
                </a:lnTo>
                <a:lnTo>
                  <a:pt x="202810" y="708501"/>
                </a:lnTo>
                <a:lnTo>
                  <a:pt x="424742" y="486569"/>
                </a:lnTo>
                <a:lnTo>
                  <a:pt x="202810" y="2646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Умножение 9"/>
          <p:cNvSpPr/>
          <p:nvPr/>
        </p:nvSpPr>
        <p:spPr>
          <a:xfrm>
            <a:off x="1874880" y="1819440"/>
            <a:ext cx="973080" cy="971280"/>
          </a:xfrm>
          <a:custGeom>
            <a:avLst/>
            <a:gdLst/>
            <a:ahLst/>
            <a:rect l="l" t="t" r="r" b="b"/>
            <a:pathLst>
              <a:path w="973137" h="971550">
                <a:moveTo>
                  <a:pt x="202885" y="264230"/>
                </a:moveTo>
                <a:lnTo>
                  <a:pt x="264561" y="202454"/>
                </a:lnTo>
                <a:lnTo>
                  <a:pt x="486569" y="424099"/>
                </a:lnTo>
                <a:lnTo>
                  <a:pt x="708576" y="202454"/>
                </a:lnTo>
                <a:lnTo>
                  <a:pt x="770252" y="264230"/>
                </a:lnTo>
                <a:lnTo>
                  <a:pt x="548345" y="485775"/>
                </a:lnTo>
                <a:lnTo>
                  <a:pt x="770252" y="707320"/>
                </a:lnTo>
                <a:lnTo>
                  <a:pt x="708576" y="769096"/>
                </a:lnTo>
                <a:lnTo>
                  <a:pt x="486569" y="547451"/>
                </a:lnTo>
                <a:lnTo>
                  <a:pt x="264561" y="769096"/>
                </a:lnTo>
                <a:lnTo>
                  <a:pt x="202885" y="707320"/>
                </a:lnTo>
                <a:lnTo>
                  <a:pt x="424792" y="485775"/>
                </a:lnTo>
                <a:lnTo>
                  <a:pt x="202885" y="2642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1"/>
          <p:cNvSpPr/>
          <p:nvPr/>
        </p:nvSpPr>
        <p:spPr>
          <a:xfrm>
            <a:off x="431640" y="3189240"/>
            <a:ext cx="4978440" cy="82548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право 12"/>
          <p:cNvSpPr/>
          <p:nvPr/>
        </p:nvSpPr>
        <p:spPr>
          <a:xfrm rot="5400000">
            <a:off x="2147400" y="2766960"/>
            <a:ext cx="442800" cy="3315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0"/>
          <p:cNvSpPr/>
          <p:nvPr/>
        </p:nvSpPr>
        <p:spPr>
          <a:xfrm>
            <a:off x="3227400" y="4592520"/>
            <a:ext cx="48625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право 14"/>
          <p:cNvSpPr/>
          <p:nvPr/>
        </p:nvSpPr>
        <p:spPr>
          <a:xfrm rot="5400000">
            <a:off x="3989520" y="4151160"/>
            <a:ext cx="442800" cy="33192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/>
          <p:cNvSpPr/>
          <p:nvPr/>
        </p:nvSpPr>
        <p:spPr>
          <a:xfrm flipH="1">
            <a:off x="5900760" y="2934720"/>
            <a:ext cx="2341440" cy="732600"/>
          </a:xfrm>
          <a:prstGeom prst="wedgeRoundRectCallout">
            <a:avLst>
              <a:gd name="adj1" fmla="val 40851"/>
              <a:gd name="adj2" fmla="val 1992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а с парамет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48DC-C53F-465A-B11D-9D2BC7EBF49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431640" y="3009960"/>
            <a:ext cx="42418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431640" y="2154240"/>
            <a:ext cx="426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Группа 9" descr=""/>
          <p:cNvPicPr/>
          <p:nvPr/>
        </p:nvPicPr>
        <p:blipFill>
          <a:blip r:embed="rId1"/>
          <a:stretch/>
        </p:blipFill>
        <p:spPr>
          <a:xfrm>
            <a:off x="2773440" y="4059360"/>
            <a:ext cx="5041800" cy="139068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55"/>
          <p:cNvGrpSpPr/>
          <p:nvPr/>
        </p:nvGrpSpPr>
        <p:grpSpPr>
          <a:xfrm>
            <a:off x="4997520" y="2733840"/>
            <a:ext cx="2706120" cy="663480"/>
            <a:chOff x="4997520" y="2733840"/>
            <a:chExt cx="2706120" cy="663480"/>
          </a:xfrm>
        </p:grpSpPr>
        <p:sp>
          <p:nvSpPr>
            <p:cNvPr id="224" name="Text Box 56"/>
            <p:cNvSpPr/>
            <p:nvPr/>
          </p:nvSpPr>
          <p:spPr>
            <a:xfrm>
              <a:off x="5464080" y="2840040"/>
              <a:ext cx="2239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7"/>
            <p:cNvSpPr/>
            <p:nvPr/>
          </p:nvSpPr>
          <p:spPr>
            <a:xfrm>
              <a:off x="4997520" y="2733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Скругленная прямоугольная выноска 16"/>
          <p:cNvSpPr/>
          <p:nvPr/>
        </p:nvSpPr>
        <p:spPr>
          <a:xfrm>
            <a:off x="3848040" y="1015920"/>
            <a:ext cx="3987720" cy="1155960"/>
          </a:xfrm>
          <a:prstGeom prst="wedgeRoundRectCallout">
            <a:avLst>
              <a:gd name="adj1" fmla="val -63828"/>
              <a:gd name="adj2" fmla="val 548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еличина, от которой зависит работа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сколько парамет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157D-B1BB-4DFD-A5E7-1107998AAD0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438120" y="1446120"/>
            <a:ext cx="8217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n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55"/>
          <p:cNvGrpSpPr/>
          <p:nvPr/>
        </p:nvGrpSpPr>
        <p:grpSpPr>
          <a:xfrm>
            <a:off x="4727520" y="1085760"/>
            <a:ext cx="3575160" cy="663480"/>
            <a:chOff x="4727520" y="1085760"/>
            <a:chExt cx="3575160" cy="663480"/>
          </a:xfrm>
        </p:grpSpPr>
        <p:sp>
          <p:nvSpPr>
            <p:cNvPr id="231" name="Text Box 56"/>
            <p:cNvSpPr/>
            <p:nvPr/>
          </p:nvSpPr>
          <p:spPr>
            <a:xfrm>
              <a:off x="5194440" y="1191960"/>
              <a:ext cx="3108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изменилос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7"/>
            <p:cNvSpPr/>
            <p:nvPr/>
          </p:nvSpPr>
          <p:spPr>
            <a:xfrm>
              <a:off x="4727520" y="1085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AutoShape 8"/>
          <p:cNvSpPr/>
          <p:nvPr/>
        </p:nvSpPr>
        <p:spPr>
          <a:xfrm flipH="1">
            <a:off x="1214280" y="902880"/>
            <a:ext cx="3097440" cy="416520"/>
          </a:xfrm>
          <a:prstGeom prst="wedgeRoundRectCallout">
            <a:avLst>
              <a:gd name="adj1" fmla="val -13013"/>
              <a:gd name="adj2" fmla="val 1027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55"/>
          <p:cNvGrpSpPr/>
          <p:nvPr/>
        </p:nvGrpSpPr>
        <p:grpSpPr>
          <a:xfrm>
            <a:off x="447840" y="2724120"/>
            <a:ext cx="3066480" cy="663480"/>
            <a:chOff x="447840" y="2724120"/>
            <a:chExt cx="3066480" cy="663480"/>
          </a:xfrm>
        </p:grpSpPr>
        <p:sp>
          <p:nvSpPr>
            <p:cNvPr id="235" name="Text Box 56"/>
            <p:cNvSpPr/>
            <p:nvPr/>
          </p:nvSpPr>
          <p:spPr>
            <a:xfrm>
              <a:off x="914400" y="2830320"/>
              <a:ext cx="2599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зыва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57"/>
            <p:cNvSpPr/>
            <p:nvPr/>
          </p:nvSpPr>
          <p:spPr>
            <a:xfrm>
              <a:off x="447840" y="2724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Прямоугольник 11"/>
          <p:cNvSpPr/>
          <p:nvPr/>
        </p:nvSpPr>
        <p:spPr>
          <a:xfrm>
            <a:off x="1514520" y="46324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2"/>
          <p:cNvSpPr/>
          <p:nvPr/>
        </p:nvSpPr>
        <p:spPr>
          <a:xfrm>
            <a:off x="1514520" y="3500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6"/>
          <p:cNvSpPr/>
          <p:nvPr/>
        </p:nvSpPr>
        <p:spPr>
          <a:xfrm>
            <a:off x="1514520" y="4067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олилиния 17"/>
          <p:cNvSpPr/>
          <p:nvPr/>
        </p:nvSpPr>
        <p:spPr>
          <a:xfrm>
            <a:off x="1166760" y="3560760"/>
            <a:ext cx="349200" cy="334800"/>
          </a:xfrm>
          <a:custGeom>
            <a:avLst/>
            <a:gdLst>
              <a:gd name="textAreaLeft" fmla="*/ 0 w 349200"/>
              <a:gd name="textAreaRight" fmla="*/ 349200 w 34920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олилиния 20"/>
          <p:cNvSpPr/>
          <p:nvPr/>
        </p:nvSpPr>
        <p:spPr>
          <a:xfrm>
            <a:off x="1166760" y="411624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олилиния 19"/>
          <p:cNvSpPr/>
          <p:nvPr/>
        </p:nvSpPr>
        <p:spPr>
          <a:xfrm>
            <a:off x="1166760" y="471636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77B5-186A-440B-90A0-EB602C8A9EB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8"/>
          <p:cNvSpPr/>
          <p:nvPr/>
        </p:nvSpPr>
        <p:spPr>
          <a:xfrm>
            <a:off x="392040" y="84780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8"/>
          <p:cNvSpPr/>
          <p:nvPr/>
        </p:nvSpPr>
        <p:spPr>
          <a:xfrm>
            <a:off x="552600" y="1293840"/>
            <a:ext cx="82166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n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i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:=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o n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A9BC-15AB-41AE-806E-108A10D488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382680" y="833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85640" y="1278000"/>
            <a:ext cx="535968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i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i&lt;=n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\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52000" y="4358880"/>
            <a:ext cx="87202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5C15-DB62-49B7-AC07-D5F2DACB7FA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555</cp:lastModifiedBy>
  <dcterms:modified xsi:type="dcterms:W3CDTF">2023-11-29T16:57:40Z</dcterms:modified>
  <cp:revision>2183</cp:revision>
  <dc:subject/>
  <dc:title>Программное обеспечение (ПО)</dc:title>
</cp:coreProperties>
</file>