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BB32-CDAE-46AC-BA4B-08645C3144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4874-62F0-4AE7-9305-5909D4551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114-5793-47BC-A1C6-D841383A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5E3-061B-47B8-B30C-5EC5F36A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3A8-22CC-4ECF-AAB1-FDFA2EF2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EEC-790C-4DD8-BA80-0FA47689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025-AE8A-45C4-88B1-C2D3A201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499B-8C4D-4991-81A3-F858691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C06E-44DF-4B18-8C83-91D2AAD3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E0F-469B-49CC-BDCE-829D9B64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99F1-9831-4C02-BBA4-A174D337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593A-7465-4BD0-B50C-AE3ADF26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F3E-8B94-4658-AC13-38354C2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FBF-4C59-4C13-9C90-6A59A02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46C4-BCD0-4ECE-AF43-B183DE7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38BB-9C64-4087-90AB-15CEDFA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E7D-33EA-4ECC-A1A7-4A7C6380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D777-F1DF-4AB4-A999-3960ACEB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C96C-F664-4FCC-B9F2-311ED643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6D14-6E7A-4398-9EB6-1DB7143E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E6EA-B5E9-473E-867A-60B0793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49A3-DB74-4F28-B012-F853C999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B9F8-320D-4EA9-A605-0C5E513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2D08-1623-42FB-8679-8E3E4563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DC2-8852-46C5-AD06-5F65AD4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D4BB-D112-4F19-8F23-0E4AD630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C8AA-3F68-41D7-9627-69F2DBE8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DB78-8FC6-4566-9060-BB0EE0B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5145-01DF-4C30-8C51-329F723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DCF9-F23D-4BF2-A26C-3E0F4098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5EEA-FC0E-4FD5-92B1-AED73157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B013-0A65-4E63-9AF5-CA6FA54D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B6F4-8A57-4861-A1C7-F7BC0113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F5C8-B3E5-4686-94B8-9687F09A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EBE0-8BF2-446D-92E4-93C7CC0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47C-2528-4AA3-8F2C-4457A06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C95D-E8D5-498D-B670-02D01643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AEC9-18B7-4F33-BC65-EAF407F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2F1A-B0C3-46B2-BAD7-98B0609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F604-C1B1-4E6E-A64B-FE9D7DAC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023F0-1B13-4F53-926F-DFF323E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83A4-A7AB-4715-8E69-DD358E4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D99A-E94E-4651-9727-3B51C56E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A4A1-4534-42E0-898C-2D59E293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0CC7-5A69-4F0E-82BC-DD8B29AD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A85-1F16-4E8C-8596-F70ABE87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BAD-0FD5-489C-8F5D-49FC138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64F-D8CD-4DE2-B4B1-46B1E6B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949-E41A-4A62-91B8-88EB21D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1DC-5DD6-4030-B645-7039CBD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F711-0F97-4A6C-A4CD-9B26CB1816D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A9E4-5F96-4390-A151-C80FBDA5FBA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7B3D-8ED3-424F-B81F-7D1FD367A52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58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44A-785B-4D8C-B064-1A912089858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cdonalds.com/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6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7F7-0CD7-41BA-9B53-BD81041933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A915-44F4-425E-B5BD-AF921F6956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382680" y="80172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ы в столбик целые числа. Вывести в другой текстовый файл те же числа, отсортированные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71"/>
          <p:cNvGrpSpPr/>
          <p:nvPr/>
        </p:nvGrpSpPr>
        <p:grpSpPr>
          <a:xfrm>
            <a:off x="430200" y="2035080"/>
            <a:ext cx="6521400" cy="663480"/>
            <a:chOff x="430200" y="2035080"/>
            <a:chExt cx="6521400" cy="663480"/>
          </a:xfrm>
        </p:grpSpPr>
        <p:sp>
          <p:nvSpPr>
            <p:cNvPr id="258" name="Text Box 69"/>
            <p:cNvSpPr/>
            <p:nvPr/>
          </p:nvSpPr>
          <p:spPr>
            <a:xfrm>
              <a:off x="919080" y="2114280"/>
              <a:ext cx="6032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 чем отличие от предыдущей задач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0"/>
            <p:cNvSpPr/>
            <p:nvPr/>
          </p:nvSpPr>
          <p:spPr>
            <a:xfrm>
              <a:off x="430200" y="203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430200" y="2832120"/>
            <a:ext cx="8196120" cy="904680"/>
            <a:chOff x="430200" y="2832120"/>
            <a:chExt cx="8196120" cy="904680"/>
          </a:xfrm>
        </p:grpSpPr>
        <p:sp>
          <p:nvSpPr>
            <p:cNvPr id="261" name="Text Box 69"/>
            <p:cNvSpPr/>
            <p:nvPr/>
          </p:nvSpPr>
          <p:spPr>
            <a:xfrm>
              <a:off x="919080" y="2911320"/>
              <a:ext cx="7707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Для сортировки нужно удерживать все элементы в памяти одновремен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0"/>
            <p:cNvSpPr/>
            <p:nvPr/>
          </p:nvSpPr>
          <p:spPr>
            <a:xfrm>
              <a:off x="430200" y="2832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C3A-2419-4979-A4B5-74EE64D619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397440" y="819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масс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625320" y="1303200"/>
            <a:ext cx="7948800" cy="2021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00320" y="33577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25320" y="3821040"/>
            <a:ext cx="7948800" cy="87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394920" y="48211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625320" y="5283360"/>
            <a:ext cx="2505240" cy="47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280-8B9A-4B88-9E0E-11232F64E0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00320" y="8190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625320" y="1303200"/>
            <a:ext cx="794880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tr(A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91320" y="2573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625320" y="303516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+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\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6013800" y="1716120"/>
            <a:ext cx="1826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7524720" y="3071880"/>
            <a:ext cx="363600" cy="11912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91320" y="4035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625320" y="449892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4d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886360" y="5589720"/>
            <a:ext cx="2687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CC7-5994-4FCC-A0B7-F908EC11FD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последней цифры и записать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суммы цифр и записать в другой файл. Используйте функцию, которая вычисляет сумму цифр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вух файлах записаны отсортированные по возрастанию массивы неизвестной длины. Объединить их и записать результат в третий файл. Полученный массив также должен быть отсортирован по возраст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D33-4DAA-4F87-87F1-3231E6A751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82680" y="80172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данные о собаках: в каждой строчке кличка собаки, ее возраст и п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Мухтар 4 немецкая овч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в другой файл сведения о собаках, которым меньше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625320" y="2851200"/>
            <a:ext cx="7948800" cy="1954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онец файла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строку из файла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обрать строку – выделить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возраст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писать строку в файл F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данных из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A23C-2485-4FB2-8052-826C77E2C0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00320" y="8190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одн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25320" y="123516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402120" y="17445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25320" y="216072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7"/>
          <p:cNvSpPr/>
          <p:nvPr/>
        </p:nvSpPr>
        <p:spPr>
          <a:xfrm>
            <a:off x="403200" y="26589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озра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25320" y="3075120"/>
            <a:ext cx="7948800" cy="85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9"/>
          <p:cNvSpPr/>
          <p:nvPr/>
        </p:nvSpPr>
        <p:spPr>
          <a:xfrm>
            <a:off x="399600" y="39276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тко всё вме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625320" y="4354560"/>
            <a:ext cx="7948800" cy="852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709-DB31-42D2-A828-8495C65AFE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61880" y="1324080"/>
            <a:ext cx="8423280" cy="378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407880" y="80964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ая програм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4D2-B198-4371-B783-65D8A6BAEB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61880" y="1324080"/>
            <a:ext cx="8423280" cy="195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99240" y="809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61880" y="3895560"/>
            <a:ext cx="8423280" cy="157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399240" y="33814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91B-75B0-4F55-8061-95FC2DB619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фамилии и имена тех учеников, которые получили больше 80 бал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ыдущей задаче добавить к полученному списку нумерацию, сократить имя до одной буквы и поставить перед фамили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6A57-5D49-4594-BD2B-E38A626166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69720" y="809640"/>
            <a:ext cx="8666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данные учеников, которые получили больше 80 баллов.  Список должен быть отсортирован по убыванию балла. Формат выходных данны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ть с файла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708-61F5-48B1-91A8-76536F60B4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2970360" y="100476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96840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497052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8"/>
          <p:cNvSpPr/>
          <p:nvPr/>
        </p:nvSpPr>
        <p:spPr>
          <a:xfrm>
            <a:off x="407880" y="2906640"/>
            <a:ext cx="419112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lain te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, разбитый на ст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пециальных символов только символы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процесс 9"/>
          <p:cNvSpPr/>
          <p:nvPr/>
        </p:nvSpPr>
        <p:spPr>
          <a:xfrm>
            <a:off x="4843440" y="2906640"/>
            <a:ext cx="419256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и, звуки, видео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Группа 12"/>
          <p:cNvGrpSpPr/>
          <p:nvPr/>
        </p:nvGrpSpPr>
        <p:grpSpPr>
          <a:xfrm>
            <a:off x="2743200" y="1601640"/>
            <a:ext cx="2589120" cy="652680"/>
            <a:chOff x="2743200" y="1601640"/>
            <a:chExt cx="2589120" cy="652680"/>
          </a:xfrm>
        </p:grpSpPr>
        <p:sp>
          <p:nvSpPr>
            <p:cNvPr id="187" name="Полилиния 10"/>
            <p:cNvSpPr/>
            <p:nvPr/>
          </p:nvSpPr>
          <p:spPr>
            <a:xfrm>
              <a:off x="2743200" y="1601640"/>
              <a:ext cx="1294560" cy="65268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11"/>
            <p:cNvSpPr/>
            <p:nvPr/>
          </p:nvSpPr>
          <p:spPr>
            <a:xfrm flipH="1">
              <a:off x="4037760" y="1601640"/>
              <a:ext cx="1294560" cy="652680"/>
            </a:xfrm>
            <a:custGeom>
              <a:avLst/>
              <a:gdLst>
                <a:gd name="textAreaLeft" fmla="*/ 360 w 1294560"/>
                <a:gd name="textAreaRight" fmla="*/ 129528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1C7-4D94-4C23-8D87-5363CE2722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254-6236-4660-9607-65BF79C224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2040" y="812880"/>
            <a:ext cx="808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mcdonalds.co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сэндви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E900-311F-4E85-959C-73A0D6DC7A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395680" y="1111320"/>
            <a:ext cx="2549880" cy="357120"/>
            <a:chOff x="5395680" y="1111320"/>
            <a:chExt cx="2549880" cy="357120"/>
          </a:xfrm>
        </p:grpSpPr>
        <p:sp>
          <p:nvSpPr>
            <p:cNvPr id="193" name="Text Box 10"/>
            <p:cNvSpPr/>
            <p:nvPr/>
          </p:nvSpPr>
          <p:spPr>
            <a:xfrm>
              <a:off x="5871600" y="1111320"/>
              <a:ext cx="207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т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flipV="1" rot="16200000">
              <a:off x="5487480" y="109296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34"/>
          <p:cNvGrpSpPr/>
          <p:nvPr/>
        </p:nvGrpSpPr>
        <p:grpSpPr>
          <a:xfrm>
            <a:off x="5395680" y="1744560"/>
            <a:ext cx="2754720" cy="357120"/>
            <a:chOff x="5395680" y="1744560"/>
            <a:chExt cx="2754720" cy="357120"/>
          </a:xfrm>
        </p:grpSpPr>
        <p:sp>
          <p:nvSpPr>
            <p:cNvPr id="196" name="AutoShape 8"/>
            <p:cNvSpPr/>
            <p:nvPr/>
          </p:nvSpPr>
          <p:spPr>
            <a:xfrm flipV="1" rot="16200000">
              <a:off x="5487480" y="171252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871600" y="1744560"/>
              <a:ext cx="2278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абота с  файл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35"/>
          <p:cNvGrpSpPr/>
          <p:nvPr/>
        </p:nvGrpSpPr>
        <p:grpSpPr>
          <a:xfrm>
            <a:off x="5395680" y="2351160"/>
            <a:ext cx="2445120" cy="355680"/>
            <a:chOff x="5395680" y="2351160"/>
            <a:chExt cx="2445120" cy="355680"/>
          </a:xfrm>
        </p:grpSpPr>
        <p:sp>
          <p:nvSpPr>
            <p:cNvPr id="199" name="AutoShape 7"/>
            <p:cNvSpPr/>
            <p:nvPr/>
          </p:nvSpPr>
          <p:spPr>
            <a:xfrm flipV="1" rot="16200000">
              <a:off x="5487840" y="2332440"/>
              <a:ext cx="220320" cy="405000"/>
            </a:xfrm>
            <a:prstGeom prst="downArrow">
              <a:avLst>
                <a:gd name="adj1" fmla="val 40000"/>
                <a:gd name="adj2" fmla="val 70074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871600" y="2351160"/>
              <a:ext cx="1969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939960" y="117468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39960" y="229860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15960" y="1736640"/>
            <a:ext cx="1125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rcRect l="0" t="0" r="1536" b="3465"/>
          <a:stretch/>
        </p:blipFill>
        <p:spPr>
          <a:xfrm>
            <a:off x="1928880" y="2101680"/>
            <a:ext cx="3316320" cy="85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"/>
          <p:cNvPicPr/>
          <p:nvPr/>
        </p:nvPicPr>
        <p:blipFill>
          <a:blip r:embed="rId2"/>
          <a:stretch/>
        </p:blipFill>
        <p:spPr>
          <a:xfrm>
            <a:off x="2014560" y="1017720"/>
            <a:ext cx="3224160" cy="58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4" descr=""/>
          <p:cNvPicPr/>
          <p:nvPr/>
        </p:nvPicPr>
        <p:blipFill>
          <a:blip r:embed="rId3"/>
          <a:stretch/>
        </p:blipFill>
        <p:spPr>
          <a:xfrm>
            <a:off x="1936800" y="1481040"/>
            <a:ext cx="3405240" cy="109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5"/>
          <p:cNvSpPr/>
          <p:nvPr/>
        </p:nvSpPr>
        <p:spPr>
          <a:xfrm>
            <a:off x="896760" y="3877200"/>
            <a:ext cx="7469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здесь работаем с фай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ая прямоугольная выноска 36"/>
          <p:cNvSpPr/>
          <p:nvPr/>
        </p:nvSpPr>
        <p:spPr>
          <a:xfrm>
            <a:off x="376200" y="2968560"/>
            <a:ext cx="3762360" cy="770040"/>
          </a:xfrm>
          <a:prstGeom prst="wedgeRoundRectCallout">
            <a:avLst>
              <a:gd name="adj1" fmla="val -25231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ые переменные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5628240" y="5075280"/>
            <a:ext cx="310680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б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22"/>
          <p:cNvSpPr/>
          <p:nvPr/>
        </p:nvSpPr>
        <p:spPr>
          <a:xfrm>
            <a:off x="6283440" y="4603680"/>
            <a:ext cx="311040" cy="549360"/>
          </a:xfrm>
          <a:custGeom>
            <a:avLst/>
            <a:gdLst>
              <a:gd name="textAreaLeft" fmla="*/ 0 w 311040"/>
              <a:gd name="textAreaRight" fmla="*/ 311400 w 311040"/>
              <a:gd name="textAreaTop" fmla="*/ 0 h 549360"/>
              <a:gd name="textAreaBottom" fmla="*/ 549360 h 549360"/>
            </a:gdLst>
            <a:ahLst/>
            <a:rect l="textAreaLeft" t="textAreaTop" r="textAreaRight" b="textAreaBottom"/>
            <a:pathLst>
              <a:path w="606055" h="765544">
                <a:moveTo>
                  <a:pt x="0" y="765544"/>
                </a:moveTo>
                <a:cubicBezTo>
                  <a:pt x="31898" y="510363"/>
                  <a:pt x="606055" y="414669"/>
                  <a:pt x="95693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ая прямоугольная выноска 23"/>
          <p:cNvSpPr/>
          <p:nvPr/>
        </p:nvSpPr>
        <p:spPr>
          <a:xfrm>
            <a:off x="4506840" y="2968560"/>
            <a:ext cx="3762360" cy="770040"/>
          </a:xfrm>
          <a:prstGeom prst="wedgeRoundRectCallout">
            <a:avLst>
              <a:gd name="adj1" fmla="val -33810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– на чтение (режим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3B74-6B2C-4A0A-8499-14E60BF9D3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561960" y="8884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561960" y="18568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396000" y="140004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412920" y="23893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61960" y="2888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01040" y="33796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целых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561960" y="3837600"/>
            <a:ext cx="8356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0])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391320" y="4692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561960" y="5147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391320" y="55627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561960" y="601920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 в фай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EEC-BD76-4501-8CAE-727B5B8624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471600" y="913680"/>
            <a:ext cx="8353440" cy="2364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d} + {:d} = {:d}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1"/>
          <p:cNvGrpSpPr/>
          <p:nvPr/>
        </p:nvGrpSpPr>
        <p:grpSpPr>
          <a:xfrm>
            <a:off x="933480" y="3468600"/>
            <a:ext cx="7188120" cy="663480"/>
            <a:chOff x="933480" y="3468600"/>
            <a:chExt cx="7188120" cy="663480"/>
          </a:xfrm>
        </p:grpSpPr>
        <p:sp>
          <p:nvSpPr>
            <p:cNvPr id="229" name="Text Box 69"/>
            <p:cNvSpPr/>
            <p:nvPr/>
          </p:nvSpPr>
          <p:spPr>
            <a:xfrm>
              <a:off x="1422360" y="3547800"/>
              <a:ext cx="6699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се данные преобразовать в строку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0"/>
            <p:cNvSpPr/>
            <p:nvPr/>
          </p:nvSpPr>
          <p:spPr>
            <a:xfrm>
              <a:off x="933480" y="346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CEF9-D859-4EA0-A01E-00D91399CE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471600" y="1667880"/>
            <a:ext cx="746892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конец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число из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к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1600" y="3296520"/>
            <a:ext cx="74689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9"/>
          <p:cNvSpPr/>
          <p:nvPr/>
        </p:nvSpPr>
        <p:spPr>
          <a:xfrm>
            <a:off x="4643280" y="3948120"/>
            <a:ext cx="3764160" cy="770040"/>
          </a:xfrm>
          <a:prstGeom prst="wedgeRoundRectCallout">
            <a:avLst>
              <a:gd name="adj1" fmla="val -66648"/>
              <a:gd name="adj2" fmla="val 39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нец файла, вернёт пуст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EEF-2723-4332-84D6-7DDF4E6C78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471600" y="1798920"/>
            <a:ext cx="7468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7"/>
          <p:cNvSpPr/>
          <p:nvPr/>
        </p:nvSpPr>
        <p:spPr>
          <a:xfrm>
            <a:off x="4159080" y="3065400"/>
            <a:ext cx="3764160" cy="770040"/>
          </a:xfrm>
          <a:prstGeom prst="wedgeRoundRectCallout">
            <a:avLst>
              <a:gd name="adj1" fmla="val -72365"/>
              <a:gd name="adj2" fmla="val -65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все строки в список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4CBA-96BF-4708-B8F3-A3124B02EB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471600" y="1795680"/>
            <a:ext cx="746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71"/>
          <p:cNvGrpSpPr/>
          <p:nvPr/>
        </p:nvGrpSpPr>
        <p:grpSpPr>
          <a:xfrm>
            <a:off x="1547640" y="5389560"/>
            <a:ext cx="5467320" cy="663480"/>
            <a:chOff x="1547640" y="5389560"/>
            <a:chExt cx="5467320" cy="663480"/>
          </a:xfrm>
        </p:grpSpPr>
        <p:sp>
          <p:nvSpPr>
            <p:cNvPr id="247" name="Text Box 69"/>
            <p:cNvSpPr/>
            <p:nvPr/>
          </p:nvSpPr>
          <p:spPr>
            <a:xfrm>
              <a:off x="2036520" y="5468760"/>
              <a:ext cx="49784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нужно закрывать файл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0"/>
            <p:cNvSpPr/>
            <p:nvPr/>
          </p:nvSpPr>
          <p:spPr>
            <a:xfrm>
              <a:off x="1547640" y="5389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Прямоугольник 13"/>
          <p:cNvSpPr/>
          <p:nvPr/>
        </p:nvSpPr>
        <p:spPr>
          <a:xfrm>
            <a:off x="391320" y="3387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471600" y="3898440"/>
            <a:ext cx="7468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0FB-FA1D-42DE-BCB5-755BF9EE4D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69720" y="809640"/>
            <a:ext cx="8666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чисел, записанных в файле в столбик,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ое и максимальное среди чётных положительных чисел, записанных в файле, и выводит результат в другой файл. Учтите, что таких чисел может вообще не бы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целые числа, сколько их – неизвестно. Напишите программу, которая определяет длину самой длинной цепочки идущих подряд одинаковых чисел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04-06T09:14:43Z</dcterms:modified>
  <cp:revision>1794</cp:revision>
  <dc:subject/>
  <dc:title>Программное обеспечение (ПО)</dc:title>
</cp:coreProperties>
</file>